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projcto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FEC-5E64-488D-ADBF-1F06837C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673-D54A-451C-8B28-4C84750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A4B-01F9-4415-903B-55310D9E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7CD-9865-4B66-9B3E-E176B52A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EBF4-881C-43D4-9EA7-27AB4EF7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4852-F16D-4606-99FC-84A6AD59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4CB6-F449-4E33-9760-2A2B44E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2796-A2E9-4CDC-8D36-B3C63424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E998-D376-408B-A0E1-9F958C94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90D5-1DA7-458E-8003-638F6AB1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06D6-B552-4DC7-BF0F-68682E9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CC9-4DF0-439A-967B-68B5C9CC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986B-00D3-4438-A055-1193395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CA5E-BF93-490D-945F-A0897CDA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B178-C984-4A02-AC20-A6665523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E5AD-D4E5-427D-B1D4-1E4A3ED1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982D-9094-4345-8ED3-BA449AE8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E0F-4486-48FC-A61C-B53CF4CD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6D9-A670-410B-A71A-4227D636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14A-D8E9-4557-9928-EE1978A1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BDE-7781-4360-9FAE-4D87D09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03F-E61C-426C-8DBC-828E82A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D0C-CD5E-4A90-83B9-8F555AF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DF0-A041-40FA-9BE1-0F78A0A4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DBD2-3084-4228-9409-08E777286DD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1B9D-5549-4E93-8DFE-C6D5103C063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71280" y="3429000"/>
            <a:ext cx="7561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共河北机电职业技术学院材料工程系总支部委员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赵 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533520" cy="304920"/>
          </a:xfrm>
          <a:custGeom>
            <a:avLst/>
            <a:gdLst>
              <a:gd name="textAreaLeft" fmla="*/ 44280 w 533520"/>
              <a:gd name="textAreaRight" fmla="*/ 489240 w 533520"/>
              <a:gd name="textAreaTop" fmla="*/ 44280 h 304920"/>
              <a:gd name="textAreaBottom" fmla="*/ 26064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4625" y="3150"/>
                </a:lnTo>
                <a:lnTo>
                  <a:pt x="3150" y="31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4625" y="18450"/>
                </a:lnTo>
                <a:lnTo>
                  <a:pt x="34625" y="31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4625" y="184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  <a:path fill="darken" w="37775" h="21600">
                <a:moveTo>
                  <a:pt x="13185" y="5098"/>
                </a:moveTo>
                <a:lnTo>
                  <a:pt x="24589" y="10800"/>
                </a:lnTo>
                <a:lnTo>
                  <a:pt x="13185" y="16502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国共产党党史简介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7D08-6CED-424B-8010-1062371A74EA}" type="slidenum">
              <a:t>1</a:t>
            </a:fld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党的历史分期</a:t>
            </a:r>
            <a:r>
              <a:rPr b="1" lang="zh-CN" sz="44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    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052280"/>
            <a:ext cx="73152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新民主主义革命时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919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年五四运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长城美黑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949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月新中国成立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社会主义革命和建设时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949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长城美黑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976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月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改革开放和社会主义现代化建设新时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976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长城美黑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至今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相关链接</a:t>
            </a:r>
            <a:r>
              <a:rPr b="1" lang="en-US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胡锦涛同志在建党</a:t>
            </a:r>
            <a:r>
              <a:rPr b="1" lang="en-US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周年的讲话中总结了三件大事</a:t>
            </a:r>
            <a:r>
              <a:rPr b="1" lang="en-US" sz="20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建立新中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确立了社会主义基本制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开创、坚持、发展了中国特色社会主义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1143000" y="6324480"/>
            <a:ext cx="380880" cy="228600"/>
          </a:xfrm>
          <a:custGeom>
            <a:avLst/>
            <a:gdLst>
              <a:gd name="textAreaLeft" fmla="*/ 38160 w 380880"/>
              <a:gd name="textAreaRight" fmla="*/ 342720 w 380880"/>
              <a:gd name="textAreaTop" fmla="*/ 38160 h 228600"/>
              <a:gd name="textAreaBottom" fmla="*/ 19080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2366" y="3600"/>
                </a:lnTo>
                <a:lnTo>
                  <a:pt x="3600" y="36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2366" y="18000"/>
                </a:lnTo>
                <a:lnTo>
                  <a:pt x="32366" y="36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32366" y="180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  <a:path fill="darken" w="35966" h="21600">
                <a:moveTo>
                  <a:pt x="12616" y="5433"/>
                </a:moveTo>
                <a:lnTo>
                  <a:pt x="23350" y="10800"/>
                </a:lnTo>
                <a:lnTo>
                  <a:pt x="12616" y="16167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 flipV="1">
            <a:off x="457200" y="632376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4484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12639" y="3794"/>
                </a:lnTo>
                <a:lnTo>
                  <a:pt x="12639" y="17806"/>
                </a:lnTo>
                <a:lnTo>
                  <a:pt x="10977" y="17806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13B-0B8A-4AAE-8F7D-64CFEFF32C67}" type="slidenum">
              <a:t>2</a:t>
            </a:fld>
          </a:p>
        </p:txBody>
      </p:sp>
    </p:spTree>
  </p:cSld>
  <p:transition spd="slow">
    <p:cover dir="lu"/>
    <p:sndAc>
      <p:stSnd>
        <p:snd r:embed="rId3" name="projcto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二部分  社会主义革命和建设时期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中华人民共和国成立，到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7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粉碎“四人帮”，中国共产党又经历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的历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这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里，中国共产党建立起社会主义制度，进行社会主义建设并取得了巨大成就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国共产党这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的历程并不是一帆风顺，在探索的征途中，当取得了成功，也发生了失误。从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开始逐渐发展起来“左”倾错误绵延了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，尤其“文化大革命”这样全局性的、长时间的严重错误的发生，导致中国社会长时间处于停滞和徘徊的状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FB3-0FAE-40B2-895F-ED76656BD7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4000" y="620640"/>
            <a:ext cx="8078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长城美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由新民主主义向社会主义的过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5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，制定了过渡时期的总路线：“从中华人民共和国成立，到社会主义改造基本完成，这是一个过渡时期。党在这个过渡时期的总路线和总任务，是要在一个相当长的时期内，逐步实现国家的社会主义工业化，并逐步实现国家对农业、对手工业和对资本主义工商业的社会主义改造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社会主义改造的基本完成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195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标志着社会主义制度的初步建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长城美黑体"/>
                <a:ea typeface="长城美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1219320" y="63244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3794"/>
                </a:moveTo>
                <a:lnTo>
                  <a:pt x="35773" y="10800"/>
                </a:lnTo>
                <a:lnTo>
                  <a:pt x="21760" y="17806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7CC-0CB2-4704-8394-C4298A5917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561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国共产党第八次全国代表大会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5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９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～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在北京举行，代表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2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，代表全国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7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党员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毛泽东当选为中央委员会主席。科学总结了社会主义革命和建设的经验教训，正确分析了形势，为探索建设社会主义道路的良好开端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面红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大跃进运动”、人民公社化运动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调整、巩固、充实、提高”方针的提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“大跃进” 的错误，三年自然灾害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5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～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6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），中苏关系恶化。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6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～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八届九中全会。大跃进→调整的轨道。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7652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533520" y="63244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3794"/>
                </a:moveTo>
                <a:lnTo>
                  <a:pt x="35773" y="10800"/>
                </a:lnTo>
                <a:lnTo>
                  <a:pt x="21760" y="17806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CF6-F2C5-431B-8DB5-F452748B67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620280"/>
            <a:ext cx="762012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国民经济调整任务的完成和十年建设成就。工业、交通运输、邮电、农业、文化教育、卫生体育。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原子弹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政治上“左”的错误的发展。“千万不要忘记阶级斗争”，“以阶级斗争为纲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文化大革命”内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文化大革命”是一场由领导者错误发动，被反革命集团利用，给党、国家和各族人民带来严重灾难的内乱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1295280" y="632448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9c9c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593-E47B-4F59-A34B-F2D9203BB5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国共产党第九次全国代表大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6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在北京举行，代表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51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，代表全国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20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党员。毛泽东当选为中央委员会主席，林彪为副主席。（刘少奇、邓小平、贺龙、陶涛、彭德怀被迫害，代表严重不纯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九大使“文化大革命”的理论和实践合法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国共产党第十次全国代表大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7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在北京举行。代表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4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，代表全国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80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党员。总结了粉碎林彪集团的经验，但坚持“九大的政治路线和组织路线是正确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十届一中全会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7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），选举毛泽东为中央委员会主席，周恩来、王洪文、康生、叶建英、李德生为副主席。王、张、江、姚在中央政治局结成“四人帮”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236-5FB9-4037-BB38-8F812690A6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.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四人帮”集团覆灭，“文化大革命”结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7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周恩来逝世，华国峰代总理；“四五”天安门事件（群众基础）；朱德逝世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）；唐山大地震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）；毛泽东逝世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）；“四人帮”隔离审查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）；华国峰任中共中央主席，中共中央军事委员会主席；发出审查“四人帮”的通知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），标志“文化大革命”结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42E-5358-45BC-A9A7-9E918D0F2C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5-10T03:08:04Z</dcterms:modified>
  <cp:revision>104</cp:revision>
  <dc:subject/>
  <dc:title>PowerPoint Presentation</dc:title>
</cp:coreProperties>
</file>